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F76B4-CF45-4F0D-AC06-0DFBBD79C3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7BB6D-C714-48FF-8187-617D20826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89A3B7-2E4E-42FB-955A-EC6CF98AFB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C59101-507E-4B39-AB50-917B91A3D7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2B5A13-1633-4EB5-8C4E-E423964278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BC0F1D-16A3-4D07-BBB2-64B00A0A0D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5D9DA1-CE57-47D7-B97B-7D6B1836B6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7134F4-8D42-4711-A2EA-A023C3D403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E63F3E-4AFD-4D23-9799-DC5F94A2BC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CD361A-1599-40B4-896D-5973834280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F2CE92-265C-4E06-B1C7-36483B454A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92D0B-F744-40EA-B953-211047EDA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D6CC2-E8C7-40C6-930B-0C418B61B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17FA3-FC40-4F8C-8321-DB6311780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32E299-219F-4567-B329-86FC2EB406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6F1765-3AA9-4A61-ABAA-DA6AA4DC38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CFABCF-7362-41E6-8482-466397CBE5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4D10070-5A96-46AF-B4CB-05CDCB24ED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8C819C3-3FE5-49BB-9AE2-B5133E48EC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62FAC51-CBE7-44F9-9C01-F1BC889ACD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BE078E8-A823-487E-840C-D82B8677C2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2CEC11F-1249-42E0-8C2B-3469FF389D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3CBB4-4E5E-4BBC-B6C3-89F85FFF3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A16D31D-A345-4D91-9D9E-8604CAB924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9898011-4287-40FC-8F7F-4D935A8D8E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03EB0D9-7F71-4930-9830-112E9D643E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F30FF6E-BFCA-43A7-BA66-91155B5730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BB9B4B3-B21D-4452-B360-B96EABE386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61F8AE4-F599-42F0-9F98-7D36A35185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F7E164A-2D96-4F92-9735-CB6FA5B40F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C3DC79-FF3C-4715-BAFB-53F7AAB384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13DD78-ABAB-4872-A945-3F8BF8E6F7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8E34CF-7F44-4E6B-80B4-E252B723AE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7EB34-0A43-4C64-BE69-0478FC86A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C28870-0BB5-44A7-9819-FBF9AB72CC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9337C5-6602-4EB7-B90F-6B80457649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9A0BFA-4A1D-47D8-A096-A3D6A9A3B4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1A0BF5-65A1-4BAF-B585-7B233E8A45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E234F6-D484-408E-96C8-8CABFE3D96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40A76D-A08F-42DE-A5EF-8AE5F1E1C6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D45594-EC05-41CC-9FB9-FA83066BF2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886578-A272-4FC0-B9DB-4531B24007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40A5F6-2E52-48B4-BF26-3CE1994FE6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E756E87-F4F9-466A-8446-37F78E3014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4E311-906B-4ABF-9808-AA8678FA9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C29421D-EA07-40A4-A912-BEF6ECD712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BBEFD92-753E-476B-94DD-92A05F9E64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869B0DD-D2F1-474B-9488-E3288C5430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FFE618C-283A-4F7F-9A06-9D715C30C0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D78E255-8044-487A-934F-84D119773D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3BEA27F-5793-4691-8D66-EA63679C4F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B8D60DA-50DD-4F24-AD11-C3C5D3DADE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EDC5FCF-4834-49CF-B861-A6A97BD7B3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293DA96-A8D7-4621-95B7-AB730F4F9D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CC67901-CC57-41BE-9112-61BC83BD3A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92B73-8E75-46E8-8934-296FD5B61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07D4CDB-A7CC-4F41-8503-12A0CF5F67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D15A8B4-34B2-4079-AD54-75EE24CA45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781F335-7112-423C-A125-25301C3A58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7E5F6AE-B90F-47C3-8E62-C4F259794C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28D4FE6-78DD-481D-94E6-BEA27DE780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DE7F407-8576-480C-8C80-CF32CD068A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A5C7188-D9B1-4CCF-A731-ECB97F2069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B7650CB-5F70-4C62-AB18-C3C680F132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55C1D68-8680-4B1F-906C-882207768B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961B0DD-44ED-406D-AB5C-039D80B63F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1727F-85D0-4C0A-8D10-065618103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4996254-3795-4561-90AB-7E2659B66E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AFADCFF1-1475-4833-BA53-7ECA84528A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3ADFA899-A097-4E02-9A25-0D59C3BE584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D9A035BA-BBC6-4C43-9DC4-6E6930B0D26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F2F4C3B-E984-4BD2-ABFD-3162414DB3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8BB9250-7DB6-4A26-8B99-0F543A8DA3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C9B3B79-4CBB-4333-85F4-D2B0EF76D7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C681219-5423-40F8-A8E9-640C0244BE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4AFDDD7-9A81-41C7-90CC-C3A502766A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0B2E09C-0654-4CFE-BEE1-C4328FB2E9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AFD6A-B655-4B90-8FD9-F1A9C6438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1489397-2D6B-4178-99D4-DB9B66CB40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1CE40DA-91C5-4BEC-A788-7C7F5EBF12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E1108E7-9563-4675-8A70-6476A3B876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49456A6-2AAB-4CD0-8154-71DE9F97AB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95B42C6-2090-4996-A20D-7D69B421EC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A4AD7-04AD-4174-961C-848CFF4E1C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c0d7aa">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Click to edit the title text format</a:t>
            </a:r>
            <a:endParaRPr b="0" lang="en-US" sz="3000" spc="-1" strike="noStrike">
              <a:solidFill>
                <a:srgbClr val="465466"/>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80b60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70a00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d7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ecdab"/>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65466"/>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08EB4D-1DD5-46F6-89A6-41F6AD481046}" type="datetime">
              <a:rPr b="0" lang="en-US" sz="1200" spc="-1" strike="noStrike">
                <a:solidFill>
                  <a:srgbClr val="465466"/>
                </a:solidFill>
                <a:latin typeface="Century Schoolbook"/>
              </a:rPr>
              <a:t>07/31/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c0d7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80b6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c0d7aa">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80b6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578FFA-E194-443E-A084-1D0150FB3D31}"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c0d7aa">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d8e5cc">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d8e5cc">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edf3e7">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c0d7aa">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edf3e7">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c0d7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c0d7aa">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c0d7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c0d7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c0d7aa">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Click to edit the title text format</a:t>
            </a:r>
            <a:endParaRPr b="0" lang="en-US" sz="3000" spc="-1" strike="noStrike">
              <a:solidFill>
                <a:srgbClr val="465466"/>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80b60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70a00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d7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ecdab"/>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65466"/>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4E4BB5-A595-4A19-A519-CA69F5EECE3E}" type="datetime">
              <a:rPr b="0" lang="en-US" sz="1200" spc="-1" strike="noStrike">
                <a:solidFill>
                  <a:srgbClr val="465466"/>
                </a:solidFill>
                <a:latin typeface="Century Schoolbook"/>
              </a:rPr>
              <a:t>07/31/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C5B5D0-C1DA-4BF4-BA41-4DE4843E5554}"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c0d7aa">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c0d7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80b6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c0d7aa">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80b6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Click to edit the title text format</a:t>
            </a:r>
            <a:endParaRPr b="0" lang="en-US" sz="3000" spc="-1" strike="noStrike">
              <a:solidFill>
                <a:srgbClr val="465466"/>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80b60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70a00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d7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ecdab"/>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65466"/>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94B153-0ABC-4735-94AF-B5C65788B0AA}" type="datetime">
              <a:rPr b="0" lang="en-US" sz="1200" spc="-1" strike="noStrike">
                <a:solidFill>
                  <a:srgbClr val="465466"/>
                </a:solidFill>
                <a:latin typeface="Century Schoolbook"/>
              </a:rPr>
              <a:t>07/31/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88903A-88EA-4B94-96E2-B5D701DDCAB4}"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c0d7aa">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d8e5cc">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d8e5cc">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edf3e7">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c0d7aa">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edf3e7">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c0d7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c0d7aa">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c0d7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c0d7aa">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c0d7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Click to edit the title text format</a:t>
            </a:r>
            <a:endParaRPr b="0" lang="en-US" sz="3000" spc="-1" strike="noStrike">
              <a:solidFill>
                <a:srgbClr val="465466"/>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80b60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70a00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d7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ecdab"/>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65466"/>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68A557-DA5C-418C-AECE-60EC3EC68C86}" type="datetime">
              <a:rPr b="0" lang="en-US" sz="1200" spc="-1" strike="noStrike">
                <a:solidFill>
                  <a:srgbClr val="465466"/>
                </a:solidFill>
                <a:latin typeface="Century Schoolbook"/>
              </a:rPr>
              <a:t>07/31/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760A1D-A977-4D05-92C8-7BECAF4F313D}"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c0d7aa">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c0d7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80b6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c0d7aa">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80b6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Click to edit the title text format</a:t>
            </a:r>
            <a:endParaRPr b="0" lang="en-US" sz="3000" spc="-1" strike="noStrike">
              <a:solidFill>
                <a:srgbClr val="465466"/>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80b60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70a00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d7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ecdab"/>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65466"/>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A815C6-7F58-4112-9CB9-3D0078888B96}" type="datetime">
              <a:rPr b="0" lang="en-US" sz="1200" spc="-1" strike="noStrike">
                <a:solidFill>
                  <a:srgbClr val="465466"/>
                </a:solidFill>
                <a:latin typeface="Century Schoolbook"/>
              </a:rPr>
              <a:t>07/31/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DEC2DE-50BC-4A97-A71E-F9B5B799644A}"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c0d7aa">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c0d7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80b6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80b6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c0d7aa">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80b6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Click to edit the title text format</a:t>
            </a:r>
            <a:endParaRPr b="0" lang="en-US" sz="3000" spc="-1" strike="noStrike">
              <a:solidFill>
                <a:srgbClr val="465466"/>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80b60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70a00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d7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ecdab"/>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65466"/>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76EAB8-573D-422E-BD2B-5FEC3129DA2E}" type="datetime">
              <a:rPr b="0" lang="en-US" sz="1200" spc="-1" strike="noStrike">
                <a:solidFill>
                  <a:srgbClr val="465466"/>
                </a:solidFill>
                <a:latin typeface="Century Schoolbook"/>
              </a:rPr>
              <a:t>07/31/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795371-34D0-4B36-9A6E-053560C4EEB4}"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c0d7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c0d7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80b6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c0d7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80b6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Click to edit the title text format</a:t>
            </a:r>
            <a:endParaRPr b="0" lang="en-US" sz="3000" spc="-1" strike="noStrike">
              <a:solidFill>
                <a:srgbClr val="465466"/>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80b60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70a00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d7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ecdab"/>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65466"/>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F50B4C-0658-4831-846F-F5323841E10D}" type="datetime">
              <a:rPr b="0" lang="en-US" sz="1200" spc="-1" strike="noStrike">
                <a:solidFill>
                  <a:srgbClr val="465466"/>
                </a:solidFill>
                <a:latin typeface="Century Schoolbook"/>
              </a:rPr>
              <a:t>07/31/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039892-6C5A-469B-8DB4-7C8496797A36}"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BELLRINGER</a:t>
            </a:r>
            <a:endParaRPr b="0" lang="en-US" sz="3000" spc="-1" strike="noStrike">
              <a:solidFill>
                <a:srgbClr val="465466"/>
              </a:solidFill>
              <a:latin typeface="Century Schoolbook"/>
            </a:endParaRPr>
          </a:p>
        </p:txBody>
      </p:sp>
      <p:sp>
        <p:nvSpPr>
          <p:cNvPr id="352"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entury Schoolbook"/>
              </a:rPr>
              <a:t>Adrian donates his old clothes to his church instead of throwing them away. Which of the three R’s is Adrian using?</a:t>
            </a:r>
            <a:endParaRPr b="0" lang="en-US" sz="3700" spc="-1" strike="noStrike">
              <a:solidFill>
                <a:srgbClr val="000000"/>
              </a:solidFill>
              <a:latin typeface="Century Schoolbook"/>
            </a:endParaRPr>
          </a:p>
          <a:p>
            <a:pPr marL="272880" indent="-272880">
              <a:lnSpc>
                <a:spcPct val="90000"/>
              </a:lnSpc>
              <a:spcBef>
                <a:spcPts val="601"/>
              </a:spcBef>
              <a:buClr>
                <a:srgbClr val="80b606"/>
              </a:buClr>
              <a:buSzPct val="70000"/>
              <a:buFont typeface="Century School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entury Schoolbook"/>
              </a:rPr>
              <a:t>Recycling</a:t>
            </a:r>
            <a:endParaRPr b="0" lang="en-US" sz="3700" spc="-1" strike="noStrike">
              <a:solidFill>
                <a:srgbClr val="000000"/>
              </a:solidFill>
              <a:latin typeface="Century Schoolbook"/>
            </a:endParaRPr>
          </a:p>
          <a:p>
            <a:pPr marL="272880" indent="-272880">
              <a:lnSpc>
                <a:spcPct val="90000"/>
              </a:lnSpc>
              <a:spcBef>
                <a:spcPts val="601"/>
              </a:spcBef>
              <a:buClr>
                <a:srgbClr val="80b606"/>
              </a:buClr>
              <a:buSzPct val="70000"/>
              <a:buFont typeface="Century School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entury Schoolbook"/>
              </a:rPr>
              <a:t>Reusing</a:t>
            </a:r>
            <a:endParaRPr b="0" lang="en-US" sz="3700" spc="-1" strike="noStrike">
              <a:solidFill>
                <a:srgbClr val="000000"/>
              </a:solidFill>
              <a:latin typeface="Century Schoolbook"/>
            </a:endParaRPr>
          </a:p>
          <a:p>
            <a:pPr marL="272880" indent="-272880">
              <a:lnSpc>
                <a:spcPct val="90000"/>
              </a:lnSpc>
              <a:spcBef>
                <a:spcPts val="601"/>
              </a:spcBef>
              <a:buClr>
                <a:srgbClr val="80b606"/>
              </a:buClr>
              <a:buSzPct val="70000"/>
              <a:buFont typeface="Century School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entury Schoolbook"/>
              </a:rPr>
              <a:t>Reducing </a:t>
            </a:r>
            <a:endParaRPr b="0" lang="en-US" sz="3700" spc="-1" strike="noStrike">
              <a:solidFill>
                <a:srgbClr val="000000"/>
              </a:solidFill>
              <a:latin typeface="Century Schoolbook"/>
            </a:endParaRPr>
          </a:p>
          <a:p>
            <a:pPr marL="272880" indent="-272880">
              <a:lnSpc>
                <a:spcPct val="90000"/>
              </a:lnSpc>
              <a:spcBef>
                <a:spcPts val="601"/>
              </a:spcBef>
              <a:buClr>
                <a:srgbClr val="80b606"/>
              </a:buClr>
              <a:buSzPct val="70000"/>
              <a:buFont typeface="Century School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entury Schoolbook"/>
              </a:rPr>
              <a:t>Renewing</a:t>
            </a:r>
            <a:endParaRPr b="0" lang="en-US" sz="3700" spc="-1" strike="noStrike">
              <a:solidFill>
                <a:srgbClr val="000000"/>
              </a:solidFill>
              <a:latin typeface="Century Schoolbook"/>
            </a:endParaRPr>
          </a:p>
          <a:p>
            <a:pPr marL="272880" indent="-272880">
              <a:lnSpc>
                <a:spcPct val="90000"/>
              </a:lnSpc>
              <a:spcBef>
                <a:spcPts val="601"/>
              </a:spcBef>
              <a:buClr>
                <a:srgbClr val="80b606"/>
              </a:buClr>
              <a:buSzPct val="70000"/>
              <a:buFont typeface="Century School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STEP 1</a:t>
            </a:r>
            <a:endParaRPr b="0" lang="en-US" sz="3000" spc="-1" strike="noStrike">
              <a:solidFill>
                <a:srgbClr val="465466"/>
              </a:solidFill>
              <a:latin typeface="Century Schoolbook"/>
            </a:endParaRPr>
          </a:p>
        </p:txBody>
      </p:sp>
      <p:sp>
        <p:nvSpPr>
          <p:cNvPr id="36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u="sng">
                <a:solidFill>
                  <a:srgbClr val="000000"/>
                </a:solidFill>
                <a:uFillTx/>
                <a:latin typeface="Century Schoolbook"/>
              </a:rPr>
              <a:t>Step 1</a:t>
            </a:r>
            <a:endParaRPr b="0" lang="en-US" sz="4600" spc="-1" strike="noStrike">
              <a:solidFill>
                <a:srgbClr val="000000"/>
              </a:solidFill>
              <a:latin typeface="Century Schoolbook"/>
            </a:endParaRPr>
          </a:p>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u="sng">
                <a:solidFill>
                  <a:srgbClr val="000000"/>
                </a:solidFill>
                <a:uFillTx/>
                <a:latin typeface="Century Schoolbook"/>
              </a:rPr>
              <a:t>Identify the problem.</a:t>
            </a:r>
            <a:endParaRPr b="0" lang="en-US" sz="4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STEP 2</a:t>
            </a:r>
            <a:endParaRPr b="0" lang="en-US" sz="3000" spc="-1" strike="noStrike">
              <a:solidFill>
                <a:srgbClr val="465466"/>
              </a:solidFill>
              <a:latin typeface="Century Schoolbook"/>
            </a:endParaRPr>
          </a:p>
        </p:txBody>
      </p:sp>
      <p:sp>
        <p:nvSpPr>
          <p:cNvPr id="37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u="sng">
                <a:solidFill>
                  <a:srgbClr val="000000"/>
                </a:solidFill>
                <a:uFillTx/>
                <a:latin typeface="Century Schoolbook"/>
              </a:rPr>
              <a:t>Step 2</a:t>
            </a:r>
            <a:endParaRPr b="0" lang="en-US" sz="4600" spc="-1" strike="noStrike">
              <a:solidFill>
                <a:srgbClr val="000000"/>
              </a:solidFill>
              <a:latin typeface="Century Schoolbook"/>
            </a:endParaRPr>
          </a:p>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u="sng">
                <a:solidFill>
                  <a:srgbClr val="000000"/>
                </a:solidFill>
                <a:uFillTx/>
                <a:latin typeface="Century Schoolbook"/>
              </a:rPr>
              <a:t>Brainstorm solutions to the problem.</a:t>
            </a:r>
            <a:endParaRPr b="0" lang="en-US" sz="4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STEP 3</a:t>
            </a:r>
            <a:endParaRPr b="0" lang="en-US" sz="3000" spc="-1" strike="noStrike">
              <a:solidFill>
                <a:srgbClr val="465466"/>
              </a:solidFill>
              <a:latin typeface="Century Schoolbook"/>
            </a:endParaRPr>
          </a:p>
        </p:txBody>
      </p:sp>
      <p:sp>
        <p:nvSpPr>
          <p:cNvPr id="373"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u="sng">
                <a:solidFill>
                  <a:srgbClr val="000000"/>
                </a:solidFill>
                <a:uFillTx/>
                <a:latin typeface="Century Schoolbook"/>
              </a:rPr>
              <a:t>Step 3</a:t>
            </a:r>
            <a:endParaRPr b="0" lang="en-US" sz="4600" spc="-1" strike="noStrike">
              <a:solidFill>
                <a:srgbClr val="000000"/>
              </a:solidFill>
              <a:latin typeface="Century Schoolbook"/>
            </a:endParaRPr>
          </a:p>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u="sng">
                <a:solidFill>
                  <a:srgbClr val="000000"/>
                </a:solidFill>
                <a:uFillTx/>
                <a:latin typeface="Century Schoolbook"/>
              </a:rPr>
              <a:t>Evaluate your solutions.  Decide which one will be the most effective in solving the problem.</a:t>
            </a:r>
            <a:endParaRPr b="0" lang="en-US" sz="4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STEP 4</a:t>
            </a:r>
            <a:endParaRPr b="0" lang="en-US" sz="3000" spc="-1" strike="noStrike">
              <a:solidFill>
                <a:srgbClr val="465466"/>
              </a:solidFill>
              <a:latin typeface="Century Schoolbook"/>
            </a:endParaRPr>
          </a:p>
        </p:txBody>
      </p:sp>
      <p:sp>
        <p:nvSpPr>
          <p:cNvPr id="37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u="sng">
                <a:solidFill>
                  <a:srgbClr val="000000"/>
                </a:solidFill>
                <a:uFillTx/>
                <a:latin typeface="Century Schoolbook"/>
              </a:rPr>
              <a:t>Step 4</a:t>
            </a:r>
            <a:endParaRPr b="0" lang="en-US" sz="4600" spc="-1" strike="noStrike">
              <a:solidFill>
                <a:srgbClr val="000000"/>
              </a:solidFill>
              <a:latin typeface="Century Schoolbook"/>
            </a:endParaRPr>
          </a:p>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u="sng">
                <a:solidFill>
                  <a:srgbClr val="000000"/>
                </a:solidFill>
                <a:uFillTx/>
                <a:latin typeface="Century Schoolbook"/>
              </a:rPr>
              <a:t>Explain how your solution would help the environment.</a:t>
            </a:r>
            <a:endParaRPr b="0" lang="en-US" sz="4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680"/>
            <a:ext cx="7467480" cy="43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5466"/>
                </a:solidFill>
                <a:latin typeface="Century Schoolbook"/>
              </a:rPr>
              <a:t>MODELING </a:t>
            </a:r>
            <a:endParaRPr b="0" lang="en-US" sz="2700" spc="-1" strike="noStrike">
              <a:solidFill>
                <a:srgbClr val="465466"/>
              </a:solidFill>
              <a:latin typeface="Century Schoolbook"/>
            </a:endParaRPr>
          </a:p>
        </p:txBody>
      </p:sp>
      <p:sp>
        <p:nvSpPr>
          <p:cNvPr id="377" name=""/>
          <p:cNvSpPr txBox="1"/>
          <p:nvPr/>
        </p:nvSpPr>
        <p:spPr>
          <a:xfrm>
            <a:off x="456840" y="975960"/>
            <a:ext cx="7467480" cy="549756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entury Schoolbook"/>
              </a:rPr>
              <a:t>If every U.S. household replaced just one regular incandescent light bulb with a compact fluorescent light bulb, it would prevent 90 billion pounds of greenhouse gas emissions from power plants, the equivalent of taking 7.5 million cars off the road. </a:t>
            </a:r>
            <a:endParaRPr b="0" lang="en-US" sz="33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entury Schoolbook"/>
              </a:rPr>
              <a:t>What would be the BEST solution to the problem presented in the passage? Why did you choose this solution?</a:t>
            </a:r>
            <a:endParaRPr b="0" lang="en-US" sz="33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654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GP 1</a:t>
            </a:r>
            <a:endParaRPr b="0" lang="en-US" sz="3000" spc="-1" strike="noStrike">
              <a:solidFill>
                <a:srgbClr val="465466"/>
              </a:solidFill>
              <a:latin typeface="Century Schoolbook"/>
            </a:endParaRPr>
          </a:p>
        </p:txBody>
      </p:sp>
      <p:sp>
        <p:nvSpPr>
          <p:cNvPr id="379" name=""/>
          <p:cNvSpPr txBox="1"/>
          <p:nvPr/>
        </p:nvSpPr>
        <p:spPr>
          <a:xfrm>
            <a:off x="456840" y="992160"/>
            <a:ext cx="7937640" cy="586584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entury Schoolbook"/>
              </a:rPr>
              <a:t>Every day in Ms. Roth’s class, students take notes on at least 2 different sheets of paper.  Students write their do now on one sheet and their notes on another sheet. sometimes they even write their independent practice on a third sheet.</a:t>
            </a:r>
            <a:endParaRPr b="0" lang="en-US" sz="37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entury Schoolbook"/>
              </a:rPr>
              <a:t>Identify the problem and a solution to the problem.  Explain why that is a good solution.</a:t>
            </a:r>
            <a:endParaRPr b="0" lang="en-US" sz="3700" spc="-1" strike="noStrike">
              <a:solidFill>
                <a:srgbClr val="000000"/>
              </a:solidFill>
              <a:latin typeface="Century Schoolbook"/>
            </a:endParaRPr>
          </a:p>
          <a:p>
            <a:pPr marL="272880" indent="-272880">
              <a:lnSpc>
                <a:spcPct val="90000"/>
              </a:lnSpc>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467480" cy="555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GP 2</a:t>
            </a:r>
            <a:endParaRPr b="0" lang="en-US" sz="3000" spc="-1" strike="noStrike">
              <a:solidFill>
                <a:srgbClr val="465466"/>
              </a:solidFill>
              <a:latin typeface="Century Schoolbook"/>
            </a:endParaRPr>
          </a:p>
        </p:txBody>
      </p:sp>
      <p:sp>
        <p:nvSpPr>
          <p:cNvPr id="381" name=""/>
          <p:cNvSpPr txBox="1"/>
          <p:nvPr/>
        </p:nvSpPr>
        <p:spPr>
          <a:xfrm>
            <a:off x="456840" y="829800"/>
            <a:ext cx="7467480" cy="56437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entury Schoolbook"/>
              </a:rPr>
              <a:t>The decision to drive cars long distances to work was common among people in the US and Europe for the past 60 years.  Driving a car creates air pollution which is harmful to the environment. Without a healthy natural environment, there will be few healthy humans. </a:t>
            </a:r>
            <a:endParaRPr b="0" lang="en-US" sz="33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entury Schoolbook"/>
              </a:rPr>
              <a:t>Identify the problem and a solution to the problem.  Explain why that is a good solution.</a:t>
            </a:r>
            <a:endParaRPr b="0" lang="en-US" sz="33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274320"/>
            <a:ext cx="7467480" cy="56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GP 3</a:t>
            </a:r>
            <a:endParaRPr b="0" lang="en-US" sz="3000" spc="-1" strike="noStrike">
              <a:solidFill>
                <a:srgbClr val="465466"/>
              </a:solidFill>
              <a:latin typeface="Century Schoolbook"/>
            </a:endParaRPr>
          </a:p>
        </p:txBody>
      </p:sp>
      <p:sp>
        <p:nvSpPr>
          <p:cNvPr id="383" name=""/>
          <p:cNvSpPr txBox="1"/>
          <p:nvPr/>
        </p:nvSpPr>
        <p:spPr>
          <a:xfrm>
            <a:off x="456840" y="988920"/>
            <a:ext cx="7467480" cy="548496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entury Schoolbook"/>
              </a:rPr>
              <a:t>For every degree lower an air conditioner is set, the energy needed to power the air conditioner increases.  The energy required to power the air conditioner often comes from electricity that is created by burning coal or other fossil fuels which increases air pollution.</a:t>
            </a:r>
            <a:endParaRPr b="0" lang="en-US" sz="33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entury Schoolbook"/>
              </a:rPr>
              <a:t>Identify the problem and a solution to the problem.  Explain why that is a good solution.</a:t>
            </a:r>
            <a:endParaRPr b="0" lang="en-US" sz="33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entury Schoolbook"/>
            </a:endParaRPr>
          </a:p>
          <a:p>
            <a:pPr marL="272880" indent="-272880">
              <a:lnSpc>
                <a:spcPct val="80000"/>
              </a:lnSpc>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80000"/>
              </a:lnSpc>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INDEPENDENT PRACTICE</a:t>
            </a:r>
            <a:endParaRPr b="0" lang="en-US" sz="3000" spc="-1" strike="noStrike">
              <a:solidFill>
                <a:srgbClr val="465466"/>
              </a:solidFill>
              <a:latin typeface="Century Schoolbook"/>
            </a:endParaRPr>
          </a:p>
        </p:txBody>
      </p:sp>
      <p:sp>
        <p:nvSpPr>
          <p:cNvPr id="38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On the bottom of your class notes, title your practice “2.4 Resource Conservation – Independent Practice”</a:t>
            </a:r>
            <a:endParaRPr b="0" lang="en-US" sz="3000" spc="-1" strike="noStrike">
              <a:solidFill>
                <a:srgbClr val="000000"/>
              </a:solidFill>
              <a:latin typeface="Century Schoolbook"/>
            </a:endParaRPr>
          </a:p>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For each passage answer the following questions:</a:t>
            </a:r>
            <a:endParaRPr b="0" lang="en-US" sz="3000" spc="-1" strike="noStrike">
              <a:solidFill>
                <a:srgbClr val="000000"/>
              </a:solidFill>
              <a:latin typeface="Century Schoolbook"/>
            </a:endParaRPr>
          </a:p>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What is the environmental problem?</a:t>
            </a:r>
            <a:endParaRPr b="0" lang="en-US" sz="3000" spc="-1" strike="noStrike">
              <a:solidFill>
                <a:srgbClr val="000000"/>
              </a:solidFill>
              <a:latin typeface="Century Schoolbook"/>
            </a:endParaRPr>
          </a:p>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What is the BEST solution?</a:t>
            </a:r>
            <a:endParaRPr b="0" lang="en-US" sz="3000" spc="-1" strike="noStrike">
              <a:solidFill>
                <a:srgbClr val="000000"/>
              </a:solidFill>
              <a:latin typeface="Century Schoolbook"/>
            </a:endParaRPr>
          </a:p>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Why is this the best solution?</a:t>
            </a:r>
            <a:endParaRPr b="0" lang="en-US" sz="3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EXTRA CREDIT ASSIGNMENT</a:t>
            </a:r>
            <a:endParaRPr b="0" lang="en-US" sz="3000" spc="-1" strike="noStrike">
              <a:solidFill>
                <a:srgbClr val="465466"/>
              </a:solidFill>
              <a:latin typeface="Century Schoolbook"/>
            </a:endParaRPr>
          </a:p>
        </p:txBody>
      </p:sp>
      <p:sp>
        <p:nvSpPr>
          <p:cNvPr id="38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Use the 3 step process to identify a problem at the school which is using resources or harmful to the environment.  Then brainstorm solutions to this problem.  Finally, evaluate the solutions and pick the one that will be most effective in solving the problem.</a:t>
            </a:r>
            <a:endParaRPr b="0" lang="en-US" sz="2400" spc="-1" strike="noStrike">
              <a:solidFill>
                <a:srgbClr val="000000"/>
              </a:solidFill>
              <a:latin typeface="Century Schoolbook"/>
            </a:endParaRPr>
          </a:p>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o earn the extra credit, you must submit evidence that you have completed all three steps – you need to have the problem written down, several brainstormed solutions, the solution you chose, and the reason you decided that was the best solution.</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LET’S PRACTICE</a:t>
            </a:r>
            <a:endParaRPr b="0" lang="en-US" sz="3000" spc="-1" strike="noStrike">
              <a:solidFill>
                <a:srgbClr val="465466"/>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What does it mean to reduce?</a:t>
            </a:r>
            <a:endParaRPr b="0" lang="en-US" sz="4000" spc="-1" strike="noStrike">
              <a:solidFill>
                <a:srgbClr val="000000"/>
              </a:solidFill>
              <a:latin typeface="Century Schoolbook"/>
            </a:endParaRPr>
          </a:p>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What is one example of reducing?</a:t>
            </a:r>
            <a:endParaRPr b="0" lang="en-US" sz="4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LET’S PRACTICE…</a:t>
            </a:r>
            <a:r>
              <a:rPr b="0" lang="en-US" sz="3000" spc="-1" strike="noStrike">
                <a:solidFill>
                  <a:srgbClr val="465466"/>
                </a:solidFill>
                <a:latin typeface="Century Schoolbook"/>
              </a:rPr>
              <a:t>	</a:t>
            </a:r>
            <a:endParaRPr b="0" lang="en-US" sz="3000" spc="-1" strike="noStrike">
              <a:solidFill>
                <a:srgbClr val="465466"/>
              </a:solidFill>
              <a:latin typeface="Century Schoolbook"/>
            </a:endParaRPr>
          </a:p>
        </p:txBody>
      </p:sp>
      <p:sp>
        <p:nvSpPr>
          <p:cNvPr id="35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What does it mean to reuse?</a:t>
            </a:r>
            <a:endParaRPr b="0" lang="en-US" sz="4000" spc="-1" strike="noStrike">
              <a:solidFill>
                <a:srgbClr val="000000"/>
              </a:solidFill>
              <a:latin typeface="Century Schoolbook"/>
            </a:endParaRPr>
          </a:p>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What is one example of reusing?</a:t>
            </a:r>
            <a:endParaRPr b="0" lang="en-US" sz="4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LET’S PRACTICE…</a:t>
            </a:r>
            <a:endParaRPr b="0" lang="en-US" sz="3000" spc="-1" strike="noStrike">
              <a:solidFill>
                <a:srgbClr val="465466"/>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What does it mean to recycle? </a:t>
            </a:r>
            <a:endParaRPr b="0" lang="en-US" sz="4000" spc="-1" strike="noStrike">
              <a:solidFill>
                <a:srgbClr val="000000"/>
              </a:solidFill>
              <a:latin typeface="Century Schoolbook"/>
            </a:endParaRPr>
          </a:p>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What is one example of recycling?</a:t>
            </a:r>
            <a:endParaRPr b="0" lang="en-US" sz="4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OBJECTIVE</a:t>
            </a:r>
            <a:endParaRPr b="0" lang="en-US" sz="3000" spc="-1" strike="noStrike">
              <a:solidFill>
                <a:srgbClr val="465466"/>
              </a:solidFill>
              <a:latin typeface="Century Schoolbook"/>
            </a:endParaRPr>
          </a:p>
        </p:txBody>
      </p:sp>
      <p:sp>
        <p:nvSpPr>
          <p:cNvPr id="36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entury Schoolbook"/>
              </a:rPr>
              <a:t>After today you will be able to identify the solution to an environmental problem and justify the reasoning for your choice.</a:t>
            </a:r>
            <a:endParaRPr b="0" lang="en-US" sz="4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BIG GOAL CONNECTION</a:t>
            </a:r>
            <a:endParaRPr b="0" lang="en-US" sz="3000" spc="-1" strike="noStrike">
              <a:solidFill>
                <a:srgbClr val="465466"/>
              </a:solidFill>
              <a:latin typeface="Century Schoolbook"/>
            </a:endParaRPr>
          </a:p>
        </p:txBody>
      </p:sp>
      <p:sp>
        <p:nvSpPr>
          <p:cNvPr id="362" name=""/>
          <p:cNvSpPr txBox="1"/>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entury Schoolbook"/>
              </a:rPr>
              <a:t>Master </a:t>
            </a:r>
            <a:r>
              <a:rPr b="1" lang="en-US" sz="4600" spc="-1" strike="noStrike">
                <a:solidFill>
                  <a:srgbClr val="000000"/>
                </a:solidFill>
                <a:latin typeface="Century Schoolbook"/>
              </a:rPr>
              <a:t>80%</a:t>
            </a:r>
            <a:r>
              <a:rPr b="0" lang="en-US" sz="4600" spc="-1" strike="noStrike">
                <a:solidFill>
                  <a:srgbClr val="000000"/>
                </a:solidFill>
                <a:latin typeface="Century Schoolbook"/>
              </a:rPr>
              <a:t> of the science content</a:t>
            </a:r>
            <a:endParaRPr b="0" lang="en-US" sz="4600" spc="-1" strike="noStrike">
              <a:solidFill>
                <a:srgbClr val="000000"/>
              </a:solidFill>
              <a:latin typeface="Century Schoolbook"/>
            </a:endParaRPr>
          </a:p>
          <a:p>
            <a:pPr marL="272880" indent="-272880">
              <a:lnSpc>
                <a:spcPct val="80000"/>
              </a:lnSpc>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entury Schoolbook"/>
              </a:rPr>
              <a:t>Average an </a:t>
            </a:r>
            <a:r>
              <a:rPr b="1" lang="en-US" sz="4600" spc="-1" strike="noStrike">
                <a:solidFill>
                  <a:srgbClr val="000000"/>
                </a:solidFill>
                <a:latin typeface="Century Schoolbook"/>
              </a:rPr>
              <a:t>8</a:t>
            </a:r>
            <a:r>
              <a:rPr b="0" lang="en-US" sz="4600" spc="-1" strike="noStrike">
                <a:solidFill>
                  <a:srgbClr val="000000"/>
                </a:solidFill>
                <a:latin typeface="Century Schoolbook"/>
              </a:rPr>
              <a:t> on the writing rubric</a:t>
            </a:r>
            <a:endParaRPr b="0" lang="en-US" sz="4600" spc="-1" strike="noStrike">
              <a:solidFill>
                <a:srgbClr val="000000"/>
              </a:solidFill>
              <a:latin typeface="Century Schoolbook"/>
            </a:endParaRPr>
          </a:p>
          <a:p>
            <a:pPr marL="272880" indent="-272880">
              <a:lnSpc>
                <a:spcPct val="80000"/>
              </a:lnSpc>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entury Schoolbook"/>
              </a:rPr>
              <a:t>Are aware of the importance of science to the international community</a:t>
            </a:r>
            <a:endParaRPr b="0" lang="en-US" sz="4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3840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700" spc="-1" strike="noStrike" u="sng">
                <a:solidFill>
                  <a:srgbClr val="465466"/>
                </a:solidFill>
                <a:uFillTx/>
                <a:latin typeface="Century Schoolbook"/>
              </a:rPr>
              <a:t>2.4 RESOURCE CONSERVATION</a:t>
            </a:r>
            <a:endParaRPr b="0" lang="en-US" sz="6700" spc="-1" strike="noStrike">
              <a:solidFill>
                <a:srgbClr val="465466"/>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RESOURCE CONSERVATION</a:t>
            </a:r>
            <a:endParaRPr b="0" lang="en-US" sz="3000" spc="-1" strike="noStrike">
              <a:solidFill>
                <a:srgbClr val="465466"/>
              </a:solidFill>
              <a:latin typeface="Century Schoolbook"/>
            </a:endParaRPr>
          </a:p>
        </p:txBody>
      </p:sp>
      <p:sp>
        <p:nvSpPr>
          <p:cNvPr id="36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u="sng">
                <a:solidFill>
                  <a:srgbClr val="000000"/>
                </a:solidFill>
                <a:uFillTx/>
                <a:latin typeface="Century Schoolbook"/>
              </a:rPr>
              <a:t>Scientists use critical thinking skills to protect the environment and conserve resources.</a:t>
            </a:r>
            <a:endParaRPr b="0" lang="en-US" sz="4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680"/>
            <a:ext cx="7467480" cy="43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5466"/>
                </a:solidFill>
                <a:latin typeface="Century Schoolbook"/>
              </a:rPr>
              <a:t>MODELING </a:t>
            </a:r>
            <a:endParaRPr b="0" lang="en-US" sz="2700" spc="-1" strike="noStrike">
              <a:solidFill>
                <a:srgbClr val="465466"/>
              </a:solidFill>
              <a:latin typeface="Century Schoolbook"/>
            </a:endParaRPr>
          </a:p>
        </p:txBody>
      </p:sp>
      <p:sp>
        <p:nvSpPr>
          <p:cNvPr id="367" name=""/>
          <p:cNvSpPr txBox="1"/>
          <p:nvPr/>
        </p:nvSpPr>
        <p:spPr>
          <a:xfrm>
            <a:off x="456840" y="975960"/>
            <a:ext cx="7467480" cy="549756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entury Schoolbook"/>
              </a:rPr>
              <a:t>If every U.S. household replaced just one regular incandescent light bulb with a compact fluorescent light bulb, it would prevent 90 billion pounds of greenhouse gas emissions from power plants, the equivalent of taking 7.5 million cars off the road. </a:t>
            </a:r>
            <a:endParaRPr b="0" lang="en-US" sz="33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entury Schoolbook"/>
              </a:rPr>
              <a:t>What would be the BEST solution to the problem presented in the passage? Why did you choose this solution?</a:t>
            </a:r>
            <a:endParaRPr b="0" lang="en-US" sz="33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3T14:50:52Z</dcterms:created>
  <dc:creator>Caroline Roth</dc:creator>
  <dc:description/>
  <dc:language>en-US</dc:language>
  <cp:lastModifiedBy>Caroline Roth</cp:lastModifiedBy>
  <dcterms:modified xsi:type="dcterms:W3CDTF">2011-05-23T22:41:53Z</dcterms:modified>
  <cp:revision>23</cp:revision>
  <dc:subject/>
  <dc:title>Bellringer</dc:title>
</cp:coreProperties>
</file>